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7F87-DF2B-434F-96D8-F395E4617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184A-2898-4E09-84EE-3D90C31F1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7D1D-A121-443D-9613-52C9E5F39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A2D7-07A5-4B67-AB6A-D498B947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ABD6-C8C5-49B0-908F-FEA167AF5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25B6-A88D-48C3-94EC-2C8154736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F6D8-057B-48C9-B4BC-6D389D3B9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7234-1A52-4BB9-89AA-3957791E1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22A7-E458-4073-B3BD-D7A1C019F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51FE-AB9D-4140-A90C-CCF34E39F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9671-523A-423C-853D-430AD823C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F31E-A4E1-4054-BC86-858334DAD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C236-6EB3-404D-8D67-3B5F836C4D7F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989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125360"/>
            <a:ext cx="770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8-11-13T06:01:17Z</dcterms:modified>
  <cp:revision>512</cp:revision>
  <dc:subject/>
  <dc:title>No Slide Title</dc:title>
</cp:coreProperties>
</file>