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6EBBF-FFEA-4EC1-9B64-CCEF18A26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17C64-4746-4249-93D6-982D5BAC4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76891-212D-459E-8B74-C2D1B3AC5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76CC3-62F7-4577-88C9-E9AE0DA5C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24E95-E5D4-47EA-A4C9-D87A7BD59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1C52F-1385-455F-9A24-64A35ACFD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DA2B7-6A9E-429B-98AE-E7831894B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ECFD-8C01-4B40-85FE-E302AFB86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1807E-1479-48AD-9D9A-7B17D5D7B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40AC3-B6B0-47FC-8D2A-C12BCF424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CD291-E1EB-464F-ACF7-FD409BFF8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F9D32-269F-432B-A9C6-3E8927581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b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905120" y="7632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5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Research Skills Development Un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215640" y="645120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f5f5f"/>
                </a:solidFill>
                <a:latin typeface="Arial Narrow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C4EC-F7B3-4915-98DE-8809D1CD9DC8}" type="slidenum">
              <a:rPr b="0" lang="ar-SA" sz="1400" spc="-1" strike="noStrike">
                <a:solidFill>
                  <a:srgbClr val="5f5f5f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72480" y="76320"/>
            <a:ext cx="111924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52280" y="112680"/>
            <a:ext cx="533520" cy="42084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447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5f5f5f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mailto:e.jongsma@sec.gov.qa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03280" y="1989000"/>
            <a:ext cx="6813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Teaching and Mentoring</a:t>
            </a:r>
            <a:br>
              <a:rPr sz="3200"/>
            </a:b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Student Researchers</a:t>
            </a:r>
            <a:br>
              <a:rPr sz="3200"/>
            </a:b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Part 2: Scientific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92360" y="3714840"/>
            <a:ext cx="5832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Dr. Nancy A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llege of Education, Qatar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Dr. Gene Jong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ducation Institute, Supreme Education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s. Tarfa Al-Nai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ducation Institute, Supreme Education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استبيان :</a:t>
            </a:r>
            <a:endParaRPr b="1" i="1" lang="en-US" sz="3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هو أداة تتكون من مجموعة من الاسئلة لجمع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تستخدم للوصول لعدد كبير من المشارك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غالباً يستخدم الاستبيان والمسح للحصول على نوعين من المعلوم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حقائ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مواقف وآرا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مقابلة :</a:t>
            </a:r>
            <a:br>
              <a:rPr sz="3600"/>
            </a:b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</a:rPr>
              <a:t>تستخدم المقابلة لجمع بيانات بخصوص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مواقف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آرا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قي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معتقدات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5000"/>
              </a:lnSpc>
              <a:spcAft>
                <a:spcPts val="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</a:rPr>
              <a:t>مميزات استخدام المقابل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تستخدم للحصول على معلومات اعم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5000"/>
              </a:lnSpc>
              <a:spcAft>
                <a:spcPts val="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</a:rPr>
              <a:t>عيوب استخدام المقابلة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تستغرق وقتا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lnSpc>
                <a:spcPct val="105000"/>
              </a:lnSpc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مشاهدة 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77240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شاهدة تعني ان تستخدم حواسك في جمع معلومات حول شيءٌ 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( اشخاص ، احداث ، اماكن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شاهدة الطبيعية والمشاهدة المشارك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ص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دي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خذ ملاحظ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قوائم الملاحظ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تجربة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ا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جارب مختلفة عن الأنواعِ الأخرى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وسائل جمع المعلومات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أن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ها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حاولةَ 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تبحث في العلاقة بين السبب والأثر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 إجْراء تجربة، الباحث 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يبحث عما اذا كان شيء ما سبب لشيء آخ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متغير مستقل: </a:t>
            </a:r>
            <a:r>
              <a:rPr b="1" lang="ar-SA" sz="2200" spc="-1" strike="noStrike" u="sng">
                <a:solidFill>
                  <a:srgbClr val="000000"/>
                </a:solidFill>
                <a:uFillTx/>
                <a:latin typeface="Arial"/>
              </a:rPr>
              <a:t>المتغير المستقل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هو المتغير الذي يدرسه البحث أو يستخدمه 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</a:rPr>
              <a:t>فهو المؤث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 متغير تابع: </a:t>
            </a:r>
            <a:r>
              <a:rPr b="1" lang="ar-SA" sz="2200" spc="-1" strike="noStrike" u="sng">
                <a:solidFill>
                  <a:srgbClr val="000000"/>
                </a:solidFill>
                <a:uFillTx/>
                <a:latin typeface="Arial"/>
              </a:rPr>
              <a:t>المتغير التابع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هو الشيء الذي يحاول الباحث أن يثبت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</a:rPr>
              <a:t> أنه يتأثر بالمتغير المستقل فهو المتأث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Arial"/>
              </a:rPr>
              <a:t>أمثل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</a:rPr>
              <a:t>أي منظف يعمل على تنظيف النافذة بشكل افضل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</a:rPr>
              <a:t>أي سماد يجعل النبات ينمو بشكل أحسن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كيف تختار اداة جمع البيانات المناسبة ؟</a:t>
            </a:r>
            <a:br>
              <a:rPr sz="2800"/>
            </a:b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7777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230400" indent="-23040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انظر إلى سؤال ا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حدد أي نوع من المعلومات ترغب بالحصول علي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فكر أي اداة من ادوات جمع البيانات تعطيك هذه المعلوم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بإمكانك استخدام اكثر من أداة</a:t>
            </a:r>
            <a:r>
              <a:rPr b="1" lang="ar-QA" sz="3200" spc="-1" strike="noStrike">
                <a:solidFill>
                  <a:srgbClr val="000000"/>
                </a:solidFill>
                <a:latin typeface="Book Antiqua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1413000"/>
            <a:ext cx="7777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لماذا مدرستنا غير نظيفة ؟</a:t>
            </a:r>
            <a:br>
              <a:rPr sz="2800"/>
            </a:br>
            <a:br>
              <a:rPr sz="1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راقب ماذا يعمل الطلبة في أوقات مختلفة </a:t>
            </a:r>
            <a:br>
              <a:rPr sz="2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طلبة </a:t>
            </a:r>
            <a:br>
              <a:rPr sz="2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وزع استبيان على الطلبة </a:t>
            </a:r>
            <a:br>
              <a:rPr sz="2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عاملين في المدرسة</a:t>
            </a:r>
            <a:r>
              <a:rPr b="0" lang="ar-QA" sz="2800" spc="-1" strike="noStrike">
                <a:solidFill>
                  <a:srgbClr val="000000"/>
                </a:solidFill>
                <a:latin typeface="Century Schoolbook"/>
                <a:ea typeface="Simplified Arabic"/>
              </a:rPr>
              <a:t> </a:t>
            </a:r>
            <a:br>
              <a:rPr sz="2800"/>
            </a:b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3789360"/>
            <a:ext cx="8496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entury Schoolbook"/>
              </a:rPr>
              <a:t>هل أداء التمارين الرياضية يؤدي إلى تحسن مستوى الطلبة الدراسي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راقب الطلبة قبل وبعد تأدية التماري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مدرسي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طلب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جعل الطلبة يكتبون يومياته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حصل على درجات الطلبة في الاختبارات قبل وبعد البدء بأداء التمار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836640"/>
            <a:ext cx="90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000" spc="-1" strike="noStrike">
                <a:solidFill>
                  <a:srgbClr val="0da9a9"/>
                </a:solidFill>
                <a:latin typeface="Century Schoolbook"/>
                <a:cs typeface="Arial"/>
              </a:rPr>
              <a:t>أي أداة جمع بيانات يجب ان تستخدم لهذين السؤالين 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626920" y="2565000"/>
            <a:ext cx="37450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0">
              <a:lnSpc>
                <a:spcPct val="90000"/>
              </a:lnSpc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8800" spc="-1" strike="noStrike">
                <a:solidFill>
                  <a:srgbClr val="000000"/>
                </a:solidFill>
                <a:latin typeface="Century Gothic"/>
              </a:rPr>
              <a:t>نشاط </a:t>
            </a:r>
            <a:r>
              <a:rPr b="1" lang="ar-QA" sz="88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ar-QA" sz="8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Century Schoolbook"/>
                <a:cs typeface="Arial"/>
              </a:rPr>
              <a:t>اخذ العينة :</a:t>
            </a:r>
            <a:r>
              <a:rPr b="1" lang="en-US" sz="4000" spc="-1" strike="noStrike">
                <a:solidFill>
                  <a:srgbClr val="0da9a9"/>
                </a:solidFill>
                <a:latin typeface="Century Schoolbook"/>
              </a:rPr>
              <a:t> 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</a:rPr>
              <a:t>قبل جمع البيانات ، اختر عي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429264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9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00000"/>
                </a:solidFill>
                <a:latin typeface="Arial"/>
                <a:cs typeface="Arial"/>
              </a:rPr>
              <a:t>ما هو المقصود بالعينة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341360"/>
            <a:ext cx="8424720" cy="1440000"/>
          </a:xfrm>
          <a:prstGeom prst="wedgeRoundRectCallout">
            <a:avLst>
              <a:gd name="adj1" fmla="val -51337"/>
              <a:gd name="adj2" fmla="val 125300"/>
              <a:gd name="adj3" fmla="val 16667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3789360"/>
            <a:ext cx="8207280" cy="1584360"/>
          </a:xfrm>
          <a:prstGeom prst="wedgeRoundRectCallout">
            <a:avLst>
              <a:gd name="adj1" fmla="val 39495"/>
              <a:gd name="adj2" fmla="val 119740"/>
              <a:gd name="adj3" fmla="val 16667"/>
            </a:avLst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اختيار عينة البحث</a:t>
            </a: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r>
              <a:rPr b="1" lang="en-US" sz="3600" spc="-1" strike="noStrike">
                <a:solidFill>
                  <a:srgbClr val="0da9a9"/>
                </a:solidFill>
                <a:latin typeface="Century Schoolbook"/>
              </a:rPr>
              <a:t> 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2060640"/>
            <a:ext cx="7561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عينة البحث هي جزء من المجموعة التي يراد عمل بحث بخصوصها ( مجموعة البحث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مثال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ا رأي الطلبة بالزي المدرسي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عينة البحث المحتمل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طلبة الابتدائي ؟ طلبة الاعدادي ؟ طلبة الثانوي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بنين ؟ بن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أي صف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حليل البيانات</a:t>
            </a:r>
            <a:endParaRPr b="1" i="1" lang="en-US" sz="44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لخص البيانات في جد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مثل البيانات في رسم بيان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فسر البيانات ، ماذا تخبرك هذه البيانا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Bookman Old Style"/>
                <a:cs typeface="Arial"/>
              </a:rPr>
              <a:t>البحث العلمي 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بحث العلمي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عريف :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إعطاء سؤال او موضوع ، بحث الموضوع بطريقة منظمة لاكتشاف معلومات جدي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مثال :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ا رأي الطلبة في المرحلة الثانوية عن برنامج خدمة المجتمع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مميزاته :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عليم الطلبة كيفية انشاء معلومات جديدة، وتشجيعهم لبحث مواضيع مهمة لدي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عيوبه :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يحتاج إلى جهد اكبر وقد لا يجده جميع الطلبة ممتع وم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143000"/>
            <a:ext cx="7632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ثال !</a:t>
            </a:r>
            <a:br>
              <a:rPr sz="3200"/>
            </a:b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حليل بيانات جمعت من استبيان </a:t>
            </a:r>
            <a:br>
              <a:rPr sz="3200"/>
            </a:br>
            <a:br>
              <a:rPr sz="3200"/>
            </a:b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 رأي الطلبة في الزي المدرسي ؟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3789360"/>
          <a:ext cx="8280360" cy="1800360"/>
        </p:xfrm>
        <a:graphic>
          <a:graphicData uri="http://schemas.openxmlformats.org/drawingml/2006/table">
            <a:tbl>
              <a:tblPr/>
              <a:tblGrid>
                <a:gridCol w="1295280"/>
                <a:gridCol w="1008000"/>
                <a:gridCol w="1079640"/>
                <a:gridCol w="1225440"/>
                <a:gridCol w="1150920"/>
                <a:gridCol w="2521080"/>
              </a:tblGrid>
              <a:tr h="70812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109224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ذا افعل بالبيانات؟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2133720"/>
          <a:ext cx="7846920" cy="1512360"/>
        </p:xfrm>
        <a:graphic>
          <a:graphicData uri="http://schemas.openxmlformats.org/drawingml/2006/table">
            <a:tbl>
              <a:tblPr/>
              <a:tblGrid>
                <a:gridCol w="1227240"/>
                <a:gridCol w="955440"/>
                <a:gridCol w="1022400"/>
                <a:gridCol w="1162080"/>
                <a:gridCol w="1090800"/>
                <a:gridCol w="2388960"/>
              </a:tblGrid>
              <a:tr h="85500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65736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6885000" y="1626840"/>
            <a:ext cx="16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000" spc="-1" strike="noStrike">
                <a:solidFill>
                  <a:srgbClr val="000000"/>
                </a:solidFill>
                <a:latin typeface="Tahoma"/>
                <a:cs typeface="Tahoma"/>
              </a:rPr>
              <a:t>الطالب # </a:t>
            </a:r>
            <a:r>
              <a:rPr b="1" lang="ar-QA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85000" y="3931920"/>
            <a:ext cx="16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000" spc="-1" strike="noStrike">
                <a:solidFill>
                  <a:srgbClr val="000000"/>
                </a:solidFill>
                <a:latin typeface="Tahoma"/>
                <a:cs typeface="Tahoma"/>
              </a:rPr>
              <a:t>الطالب # </a:t>
            </a:r>
            <a:r>
              <a:rPr b="1" lang="ar-QA" sz="20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11280" y="4437000"/>
          <a:ext cx="7848360" cy="1728720"/>
        </p:xfrm>
        <a:graphic>
          <a:graphicData uri="http://schemas.openxmlformats.org/drawingml/2006/table">
            <a:tbl>
              <a:tblPr/>
              <a:tblGrid>
                <a:gridCol w="1227600"/>
                <a:gridCol w="955440"/>
                <a:gridCol w="1023120"/>
                <a:gridCol w="1161720"/>
                <a:gridCol w="1090800"/>
                <a:gridCol w="2389680"/>
              </a:tblGrid>
              <a:tr h="75060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97812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Tahoma"/>
                <a:cs typeface="Simplified Arabic"/>
              </a:rPr>
              <a:t>لخص البيانات في جدول</a:t>
            </a:r>
            <a:r>
              <a:rPr b="1" lang="ar-QA" sz="4000" spc="-1" strike="noStrike">
                <a:solidFill>
                  <a:srgbClr val="0da9a9"/>
                </a:solidFill>
                <a:latin typeface="Tahoma"/>
                <a:ea typeface="Simplified Arabic"/>
              </a:rPr>
              <a:t> </a:t>
            </a:r>
            <a:br>
              <a:rPr sz="4000"/>
            </a:b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684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عدد الطلبة الذين اختاروا كل خيا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9640" y="2805120"/>
          <a:ext cx="7847280" cy="1190520"/>
        </p:xfrm>
        <a:graphic>
          <a:graphicData uri="http://schemas.openxmlformats.org/drawingml/2006/table">
            <a:tbl>
              <a:tblPr/>
              <a:tblGrid>
                <a:gridCol w="1227240"/>
                <a:gridCol w="955800"/>
                <a:gridCol w="1022400"/>
                <a:gridCol w="1161720"/>
                <a:gridCol w="1090800"/>
                <a:gridCol w="2389320"/>
              </a:tblGrid>
              <a:tr h="75060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53172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8920" y="691920"/>
            <a:ext cx="615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Tahoma"/>
                <a:cs typeface="Simplified Arabic"/>
              </a:rPr>
              <a:t>مثل البيانات في شكل رسم بياني</a:t>
            </a:r>
            <a:r>
              <a:rPr b="1" lang="ar-QA" sz="4000" spc="-1" strike="noStrike">
                <a:solidFill>
                  <a:srgbClr val="0da9a9"/>
                </a:solidFill>
                <a:latin typeface="Tahoma"/>
                <a:ea typeface="Simplified Arabic"/>
              </a:rPr>
              <a:t> 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628640"/>
          <a:ext cx="9144000" cy="494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44000" cy="49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Times New Roman"/>
                <a:cs typeface="Times New Roman"/>
              </a:rPr>
              <a:t>تفسير البيانات : ماذا تخبرك البيانات؟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أغلب الطلبة 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يعجبهم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ون الزي المدر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5%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الطلبة يعجبهم لون الزي المدرس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بعض الطلبة 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لا يعجبهم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ون الزي المدر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0%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الطلبة لا يعجبهم لون الزي المدر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 u="sng">
                <a:solidFill>
                  <a:srgbClr val="0da9a9"/>
                </a:solidFill>
                <a:uFillTx/>
                <a:latin typeface="Century Schoolbook"/>
                <a:cs typeface="Arial"/>
              </a:rPr>
              <a:t>كتابة البحث ( كتابة تقرير البحث )</a:t>
            </a:r>
            <a:r>
              <a:rPr b="1" lang="ar-QA" sz="4000" spc="-1" strike="noStrike" u="sng">
                <a:solidFill>
                  <a:srgbClr val="0da9a9"/>
                </a:solidFill>
                <a:uFillTx/>
                <a:latin typeface="Century Schoolbook"/>
                <a:ea typeface="Arial"/>
              </a:rPr>
              <a:t>:</a:t>
            </a:r>
            <a:r>
              <a:rPr b="1" lang="en-US" sz="4000" spc="-1" strike="noStrike" u="sng">
                <a:solidFill>
                  <a:srgbClr val="0da9a9"/>
                </a:solidFill>
                <a:uFillTx/>
                <a:latin typeface="Century Schoolbook"/>
              </a:rPr>
              <a:t> 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</a:rPr>
              <a:t>كتابة تقرير البحث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إن كتابة تقرير البحث في أساسها نوع من الإخبار بقصة ، قصة أداء البحث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لماذا وكيف قرر الباحث إجراء البحث ( المقدم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كيف قام بالبحث ( منهجية البحث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ماذا حدث ( نتائج البحث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ما هي النتائج التي توصل لها الباحث ( المناقشة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ما هو المستفاد من هذا البحث ( الخاتم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غرض من كتابة تقرير البحث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من أين اتت الفكر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عملية البح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طرق جمع البيانات الاساسية التي استخدمت في ا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طرق جمع البيانات الثانو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طرق تحليل البيا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فائدة ا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مناقشة نتائج البحث وكيف يمكن تطبيق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كنوع من التوثيق ل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تنظيم وتركيب تقرير البحث</a:t>
            </a: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ea typeface="Arial"/>
              </a:rPr>
              <a:t>: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Tahoma"/>
                <a:cs typeface="Simplified Arabic"/>
              </a:rPr>
              <a:t>تقرير البحث يتكون من عدة أجز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Tahoma"/>
                <a:cs typeface="Simplified Arabic"/>
              </a:rPr>
              <a:t>هذه الأجزاء مصاغة بشكل متسلسل تبدأ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Tahoma"/>
                <a:ea typeface="Simplified Arabic"/>
              </a:rPr>
              <a:t> بالعنوان</a:t>
            </a:r>
            <a:r>
              <a:rPr b="1" lang="ar-QA" sz="3200" spc="-1" strike="noStrike">
                <a:solidFill>
                  <a:srgbClr val="000000"/>
                </a:solidFill>
                <a:latin typeface="Tahoma"/>
                <a:ea typeface="Simplified Arabic"/>
              </a:rPr>
              <a:t> و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Tahoma"/>
                <a:cs typeface="Simplified Arabic"/>
              </a:rPr>
              <a:t>المقدمة</a:t>
            </a:r>
            <a:r>
              <a:rPr b="1" lang="ar-QA" sz="3200" spc="-1" strike="noStrike">
                <a:solidFill>
                  <a:srgbClr val="000000"/>
                </a:solidFill>
                <a:latin typeface="Tahoma"/>
                <a:ea typeface="Simplified Arabic"/>
              </a:rPr>
              <a:t> وتنتهي 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Tahoma"/>
                <a:cs typeface="Simplified Arabic"/>
              </a:rPr>
              <a:t>بالمراجع</a:t>
            </a:r>
            <a:r>
              <a:rPr b="1" lang="ar-QA" sz="3200" spc="-1" strike="noStrike">
                <a:solidFill>
                  <a:srgbClr val="000000"/>
                </a:solidFill>
                <a:latin typeface="Tahoma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8560" y="549000"/>
            <a:ext cx="878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تركيب والتنظيم الأساسي لتقرير البحث 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مقدمة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لماذا قمت بهذه الدراسة ؟  ما الذي كنت تريد التوصل إليه 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ا هو سؤال بحثك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طرق البحث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يف قمت بهذا  البحث ( الإجراءات ) 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يف جمعت البيانات ؟ من شارك في البحث ؟ أين اجريت الدراسة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نتائج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اذا وجدت ؟ لخص البيانات في جداول او رسوم بيان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مناقشة والخاتمة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ا معنى النتائج التي حصلت عليها؟ هل النتائج التي حصلت عليها تجيب على سؤا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بحثك؟ ما فائدة النتائج التي حصلت عليها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مراجع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ائمة بالمراجع التي استشهدت بها في بحث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نواع مختلفة من تقرير البحث</a:t>
            </a: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: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هناك عدة طرق لتقرير البحث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المكتو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على هيئة عرض تقديمي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power point presentation</a:t>
            </a:r>
            <a:r>
              <a:rPr b="1" lang="ar-QA" sz="23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المرئي ( على هيئة فيديو 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الصوتي ( على هيئة تسجيل صوتي )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164844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marL="406440" indent="-406440"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cs typeface="Arial"/>
              </a:rPr>
              <a:t>تنقيح  افكار الطلبة والوصول إلى سؤال البحث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365292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 تحليل البيانا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278928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 جمع البيان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416304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 كتابة نتائج البحث ومشاركتها مع الآخر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40360" y="981000"/>
            <a:ext cx="44510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Bookman Old Style"/>
                <a:cs typeface="Arial"/>
              </a:rPr>
              <a:t>خطوات البحث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أهمية مشاركة نتائج الأبحاث :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يجب أن يكون لدى الطلبة الفرصة لمشاركة النتائج التي توصلوا إليها من خلال بحثهم مع زملائهم الطلبة ، المدرسين ، مدير المدرسة وأولياء الأم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توصيات الطلبة يجب أن تؤخذ بجدية واحترام وتعتبر مساهمة فعالة لحل مشكلة البح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ن المهم أيضاً ان يشعر الطلبة بأنهم جزء من صناعة القرار في مدرستهم وفي مجتمعهم بقدرتهم على ايجاد حلول للمشاكل المختل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أمر لا يتعلق فقط بتعليم الطلبة مهارات البحث ، إنه تعليمهم كيف يصبحوا أعضاء فاعلين في مجتمعه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272360" cy="5454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042920" y="7632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ww.teachers.net.q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6360" y="3789360"/>
            <a:ext cx="194328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42920" y="7632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ww.teachers.net.q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36720" y="1413000"/>
            <a:ext cx="7164360" cy="5373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771640" y="3860640"/>
            <a:ext cx="1584360" cy="1440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12356" t="18512" r="13817" b="7659"/>
          <a:stretch/>
        </p:blipFill>
        <p:spPr>
          <a:xfrm>
            <a:off x="1116000" y="1457280"/>
            <a:ext cx="7201080" cy="5400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ابع أخبار البحث 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0" name=""/>
          <p:cNvSpPr/>
          <p:nvPr/>
        </p:nvSpPr>
        <p:spPr>
          <a:xfrm>
            <a:off x="6804000" y="5445000"/>
            <a:ext cx="86508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4922280"/>
            <a:ext cx="3168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Verdana"/>
                <a:cs typeface="Arial"/>
              </a:rPr>
              <a:t>رابط لقسم البحث</a:t>
            </a:r>
            <a:r>
              <a:rPr b="0" lang="ar-QA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72360" y="5300640"/>
            <a:ext cx="43164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ابع أخبار البحث</a:t>
            </a:r>
            <a:r>
              <a:rPr b="1" i="1" lang="ar-QA" sz="3200" spc="-1" strike="noStrike">
                <a:solidFill>
                  <a:srgbClr val="0da9a9"/>
                </a:solidFill>
                <a:latin typeface="Century Schoolbook"/>
              </a:rPr>
              <a:t>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9587" t="19683" r="11411" b="7467"/>
          <a:stretch/>
        </p:blipFill>
        <p:spPr>
          <a:xfrm>
            <a:off x="684360" y="1125360"/>
            <a:ext cx="7705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cs typeface="Arial"/>
              </a:rPr>
              <a:t>شكرا لحضوركم واستماعكم </a:t>
            </a:r>
            <a:br>
              <a:rPr sz="2800"/>
            </a:br>
            <a:br>
              <a:rPr sz="2800"/>
            </a:b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cs typeface="Arial"/>
              </a:rPr>
              <a:t>اذا كان لديكم أي اسئلة او رغبتم بالحصول على معلومات اضافية </a:t>
            </a:r>
            <a:br>
              <a:rPr sz="2800"/>
            </a:b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cs typeface="Arial"/>
              </a:rPr>
              <a:t>بإمكانكم التواصل مع</a:t>
            </a: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ea typeface="Arial"/>
              </a:rPr>
              <a:t>:</a:t>
            </a: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364464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. 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.jongsma@sec.gov.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ffice Phone:  456-01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Mobile:  681-39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a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.alnuimi@sec.gov.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ffice Pone: 456-0l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Mobile:  586-99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 u="sng">
                <a:solidFill>
                  <a:srgbClr val="0da9a9"/>
                </a:solidFill>
                <a:uFillTx/>
                <a:latin typeface="Bookman Old Style"/>
                <a:cs typeface="Arial"/>
              </a:rPr>
              <a:t>صياغة سؤال البحث :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03640" y="4581000"/>
            <a:ext cx="316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70000"/>
              </a:lnSpc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6600" spc="-1" strike="noStrike">
                <a:solidFill>
                  <a:srgbClr val="000000"/>
                </a:solidFill>
                <a:latin typeface="Book Antiqua"/>
              </a:rPr>
              <a:t>النشاط </a:t>
            </a:r>
            <a:r>
              <a:rPr b="1" lang="ar-QA" sz="66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6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2421000"/>
            <a:ext cx="741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8000" spc="-1" strike="noStrike">
                <a:solidFill>
                  <a:srgbClr val="000000"/>
                </a:solidFill>
                <a:latin typeface="Book Antiqua"/>
                <a:cs typeface="Arial"/>
              </a:rPr>
              <a:t>لنجرب بعض الأفكار</a:t>
            </a:r>
            <a:r>
              <a:rPr b="1" lang="ar-QA" sz="8000" spc="-1" strike="noStrike">
                <a:solidFill>
                  <a:srgbClr val="000000"/>
                </a:solidFill>
                <a:latin typeface="Book Antiqua"/>
                <a:ea typeface="Arial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a9a9"/>
                </a:solidFill>
                <a:latin typeface="Bookman Old Style"/>
              </a:rPr>
              <a:t>Topics                            </a:t>
            </a:r>
            <a:r>
              <a:rPr b="1" lang="ar-QA" sz="4000" spc="-1" strike="noStrike">
                <a:solidFill>
                  <a:srgbClr val="0da9a9"/>
                </a:solidFill>
                <a:latin typeface="Bookman Old Style"/>
                <a:cs typeface="Arial"/>
              </a:rPr>
              <a:t>مواضيع</a:t>
            </a:r>
            <a:r>
              <a:rPr b="0" lang="ar-QA" sz="3600" spc="-1" strike="noStrike">
                <a:solidFill>
                  <a:srgbClr val="0da9a9"/>
                </a:solidFill>
                <a:latin typeface="Bookman Old Style"/>
                <a:ea typeface="Arial"/>
              </a:rPr>
              <a:t> 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6716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uman R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ealthy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ffic in Qa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V Chann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61760" y="2062800"/>
            <a:ext cx="4921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قوق الإنسا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طعام الصح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اختناق المروري في ق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نوات التلفا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4247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 u="sng">
                <a:solidFill>
                  <a:srgbClr val="0da9a9"/>
                </a:solidFill>
                <a:uFillTx/>
                <a:latin typeface="Century Schoolbook"/>
                <a:cs typeface="Arial"/>
              </a:rPr>
              <a:t>أين </a:t>
            </a: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حصل على إجابة لسؤال البحث 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انترن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كتبة ( كتب ،جرائد، مجلات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صادر محلية ( متاحف ، مراكز صحي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خبر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فراد العائ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3789360"/>
            <a:ext cx="8424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 u="sng">
                <a:solidFill>
                  <a:srgbClr val="0da9a9"/>
                </a:solidFill>
                <a:uFillTx/>
                <a:latin typeface="Century Schoolbook"/>
                <a:cs typeface="Arial"/>
              </a:rPr>
              <a:t>كيف </a:t>
            </a: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حصل على المعلومات التي احتاجها للإجابة على السؤال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4337640"/>
            <a:ext cx="770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استبيا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مقاب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مشاهد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تجرب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1345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 هي البيانات ؟</a:t>
            </a:r>
            <a:br>
              <a:rPr sz="3600"/>
            </a:br>
            <a:br>
              <a:rPr sz="3600"/>
            </a:b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بيانات قَدْ تَشْملُ الأعدادِ، 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كلمات، 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صور، خصوصاً 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حين تكون مقياس لمجموعة من المتغيرات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</a:t>
            </a:r>
            <a:r>
              <a:rPr b="1" lang="en-US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br>
              <a:rPr sz="3600"/>
            </a:br>
            <a:br>
              <a:rPr sz="3600"/>
            </a:br>
            <a:br>
              <a:rPr sz="2800"/>
            </a:b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4" name=""/>
          <p:cNvSpPr/>
          <p:nvPr/>
        </p:nvSpPr>
        <p:spPr>
          <a:xfrm>
            <a:off x="3492360" y="2421000"/>
            <a:ext cx="1440000" cy="792000"/>
          </a:xfrm>
          <a:custGeom>
            <a:avLst/>
            <a:gdLst>
              <a:gd name="textAreaLeft" fmla="*/ 252000 w 1440000"/>
              <a:gd name="textAreaRight" fmla="*/ 1044000 w 144000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دوات جمع البيانات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2879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</a:rPr>
              <a:t>مشاهد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دي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ص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شاه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</a:rPr>
              <a:t>فح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جر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متحانات ، اختبا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خذ عي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2060640"/>
            <a:ext cx="378000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تساؤل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مقاب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استبيان ومسح</a:t>
            </a:r>
            <a:r>
              <a:rPr b="0" lang="ar-QA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3640" y="1266840"/>
            <a:ext cx="9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الممكن تصنيف أدوات جمع البيانات بالشكل الت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92720" y="3889800"/>
            <a:ext cx="35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قراءة وكتابة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قراءة بخصوص الموضو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كتابة اليوم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كتابة مفك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28736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Century Schoolbook"/>
                <a:cs typeface="Arial"/>
              </a:rPr>
              <a:t>بعض الأدوات الشائعة في جمع البيانات: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استبيان والمس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مقابل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مشاهد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تجرب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20:40:46Z</dcterms:created>
  <dc:creator>Katie Swanson</dc:creator>
  <dc:description/>
  <dc:language>en-US</dc:language>
  <cp:lastModifiedBy>t.alnuimi</cp:lastModifiedBy>
  <cp:lastPrinted>2003-12-19T17:34:29Z</cp:lastPrinted>
  <dcterms:modified xsi:type="dcterms:W3CDTF">2008-11-13T06:01:17Z</dcterms:modified>
  <cp:revision>512</cp:revision>
  <dc:subject/>
  <dc:title>No Slide Title</dc:title>
</cp:coreProperties>
</file>