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FF2C-E94F-4228-B589-C4E8FAC19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BF91-5E7D-4BCB-8EB4-37D891293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590A-C03D-4461-BEDC-6944F8E4D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7D55-37D8-4FE1-97B0-B208EE47E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87EF-1220-4D86-956B-4759FF32B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972F-F148-4A22-93B6-D9A5880CC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A887-A68D-42C2-9B9B-63D0ABFE7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7990-81BF-4405-8AD3-240BA878D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BA47-E7A0-42F2-9A25-71570F7F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F82F-6994-4463-91C0-B728922C0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E63A-B156-4353-A00E-3D4C3522F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5C0D-5574-4DB9-80A4-737960AD7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a9a9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b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5120" y="76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5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search Skills Development Un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15640" y="6451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f5f5f"/>
                </a:solidFill>
                <a:latin typeface="Arial Narrow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CBE-32EA-4313-8454-9374C2131722}" type="slidenum">
              <a:rPr b="0" lang="ar-SA" sz="1400" spc="-1" strike="noStrike">
                <a:solidFill>
                  <a:srgbClr val="5f5f5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72480" y="76320"/>
            <a:ext cx="111924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52280" y="112680"/>
            <a:ext cx="533520" cy="4208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447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5f5f5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5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Aft>
                <a:spcPts val="62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lnSpc>
                <a:spcPct val="90000"/>
              </a:lnSpc>
              <a:spcAft>
                <a:spcPts val="561"/>
              </a:spcAft>
              <a:buClr>
                <a:srgbClr val="000000"/>
              </a:buClr>
              <a:buSzPct val="7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e.jongsma@sec.gov.q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989000"/>
            <a:ext cx="6813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Teaching and Mentoring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Student Researchers</a:t>
            </a:r>
            <a:br>
              <a:rPr sz="3200"/>
            </a:br>
            <a:r>
              <a:rPr b="1" i="1" lang="en-US" sz="3200" spc="-1" strike="noStrike">
                <a:solidFill>
                  <a:srgbClr val="5f5f5f"/>
                </a:solidFill>
                <a:latin typeface="Century Schoolbook"/>
                <a:ea typeface="Times New Roman"/>
              </a:rPr>
              <a:t>Part 2: Scientific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3714840"/>
            <a:ext cx="583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Nancy 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llege of Education, Qatar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. Gene Jong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s. Tarfa Al-Na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 Institute, Supreme Education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استبيان :</a:t>
            </a:r>
            <a:endParaRPr b="1" i="1" lang="en-US" sz="3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هو أداة تتكون من مجموعة من الاسئلة لجمع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تستخدم للوصول لعدد كبير من المشارك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غالباً يستخدم الاستبيان والمسح للحصول على نوعين من المعلوم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حقائ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مواقف وآر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قابلة :</a:t>
            </a:r>
            <a:br>
              <a:rPr sz="36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تستخدم المقابلة لجمع بيانات بخصوص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واق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آرا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قي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المعتقدات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مميزات استخدام المقابل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خدم للحصول على معلومات اعم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5000"/>
              </a:lnSpc>
              <a:spcAft>
                <a:spcPts val="4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</a:rPr>
              <a:t>عيوب استخدام المقابل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</a:rPr>
              <a:t>تستغرق وقتا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lnSpc>
                <a:spcPct val="105000"/>
              </a:lnSpc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مشاهدة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تعني ان تستخدم حواسك في جمع معلومات حول شيءٌ 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( اشخاص ، احداث ، اماك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شاهدة الطبيعية والمشاهدة المشارك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ملاحظ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ئم الملاحظ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جربة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جارب مختلفة عن الأنواعِ الأخرى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وسائل جمع المعلومات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أن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ها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حاولةَ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تبحث في العلاقة بين السبب والأثر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إجْراء تجربة، الباحث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يبحث عما اذا كان شيء ما سبب لشيء آخ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متغير مستقل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مستقل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متغير الذي يدرسه البحث أو يستخدمه 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فهو المؤث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. متغير تابع: </a:t>
            </a:r>
            <a:r>
              <a:rPr b="1" lang="ar-SA" sz="2200" spc="-1" strike="noStrike" u="sng">
                <a:solidFill>
                  <a:srgbClr val="000000"/>
                </a:solidFill>
                <a:uFillTx/>
                <a:latin typeface="Arial"/>
              </a:rPr>
              <a:t>المتغير التابع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هو الشيء الذي يحاول الباحث أن يثبت</a:t>
            </a:r>
            <a:r>
              <a:rPr b="1" lang="ar-QA" sz="2200" spc="-1" strike="noStrike">
                <a:solidFill>
                  <a:srgbClr val="000000"/>
                </a:solidFill>
                <a:latin typeface="Arial"/>
              </a:rPr>
              <a:t> أنه يتأثر بالمتغير المستقل فهو المتأث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</a:rPr>
              <a:t>أمثل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منظف يعمل على تنظيف النافذة بشكل افضل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أي سماد يجعل النبات ينمو بشكل أحسن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كيف تختار اداة جمع البيانات المناسبة ؟</a:t>
            </a:r>
            <a:br>
              <a:rPr sz="2800"/>
            </a:b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276640"/>
            <a:ext cx="7777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انظر إلى سؤال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حدد أي نوع من المعلومات ترغب بالحصول علي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-23040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فكر أي اداة من ادوات جمع البيانات تعطيك هذه المعلوم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Book Antiqua"/>
                <a:cs typeface="Simplified Arabic"/>
              </a:rPr>
              <a:t>بإمكانك استخدام اكثر من أداة</a:t>
            </a:r>
            <a:r>
              <a:rPr b="1" lang="ar-QA" sz="3200" spc="-1" strike="noStrike">
                <a:solidFill>
                  <a:srgbClr val="000000"/>
                </a:solidFill>
                <a:latin typeface="Book Antiqu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400" indent="0" algn="r" rtl="1">
              <a:lnSpc>
                <a:spcPct val="7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777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  <a:cs typeface="Arial"/>
              </a:rPr>
              <a:t>لماذا مدرستنا غير نظيفة ؟</a:t>
            </a:r>
            <a:br>
              <a:rPr sz="2800"/>
            </a:br>
            <a:br>
              <a:rPr sz="1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ماذا يعمل الطلبة في أوقات مختلف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وزع استبيان على الطلبة </a:t>
            </a:r>
            <a:br>
              <a:rPr sz="2400"/>
            </a:b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عاملين في المدرسة</a:t>
            </a:r>
            <a:r>
              <a:rPr b="0" lang="ar-QA" sz="2800" spc="-1" strike="noStrike">
                <a:solidFill>
                  <a:srgbClr val="000000"/>
                </a:solidFill>
                <a:latin typeface="Century Schoolbook"/>
                <a:ea typeface="Simplified Arabic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96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entury Schoolbook"/>
              </a:rPr>
              <a:t>هل أداء التمارين الرياضية يؤدي إلى تحسن مستوى الطلبة الدراس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راقب الطلبة قبل وبعد تأدية التمار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مدرسي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عمل مقابلة مع الطل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جعل الطلبة يكتبون يوم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Century Schoolbook"/>
                <a:cs typeface="Simplified Arabic"/>
              </a:rPr>
              <a:t>احصل على درجات الطلبة في الاختبارات قبل وبعد البدء بأداء التما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r" rtl="1">
              <a:lnSpc>
                <a:spcPct val="7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836640"/>
            <a:ext cx="90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ي أداة جمع بيانات يجب ان تستخدم لهذين السؤالين 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626920" y="2565000"/>
            <a:ext cx="374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>
              <a:lnSpc>
                <a:spcPct val="90000"/>
              </a:lnSpc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نشاط 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ar-QA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ذ العينة :</a:t>
            </a:r>
            <a:r>
              <a:rPr b="1" lang="en-US" sz="40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قبل جمع البيانات ، اختر 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ما هو المقصود بالعينة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8424720" cy="1440000"/>
          </a:xfrm>
          <a:prstGeom prst="wedgeRoundRectCallout">
            <a:avLst>
              <a:gd name="adj1" fmla="val -51337"/>
              <a:gd name="adj2" fmla="val 125300"/>
              <a:gd name="adj3" fmla="val 16667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789360"/>
            <a:ext cx="8207280" cy="1584360"/>
          </a:xfrm>
          <a:prstGeom prst="wedgeRoundRectCallout">
            <a:avLst>
              <a:gd name="adj1" fmla="val 39495"/>
              <a:gd name="adj2" fmla="val 119740"/>
              <a:gd name="adj3" fmla="val 16667"/>
            </a:avLst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ختيار عينة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en-US" sz="36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060640"/>
            <a:ext cx="7561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هي جزء من المجموعة التي يراد عمل بحث بخصوصها ( مجموعة البحث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بالزي المدرسي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عينة البحث المحتمل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طلبة الابتدائي ؟ طلبة الاعدادي ؟ طلبة الثانوي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بنين ؟ بن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ي ص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البيانات</a:t>
            </a:r>
            <a:endParaRPr b="1" i="1" lang="en-US" sz="44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خص البيانات في جد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ل البيانات في رسم بي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فسر البيانات ، ماذا تخبرك هذه البيان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البحث العلمي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بحث العلمي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عريف :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إعطاء سؤال او موضوع ، بحث الموضوع بطريقة منظمة لاكتشاف معلومات 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ثال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ا رأي الطلبة في المرحلة الثانوية عن برنامج خدمة المجتم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مميزات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عليم الطلبة كيفية انشاء معلومات جديدة، وتشجيعهم لبحث مواضيع مهمة لدي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عيوبه :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حتاج إلى جهد اكبر وقد لا يجده جميع الطلبة ممتع وم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143000"/>
            <a:ext cx="7632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ثال !</a:t>
            </a: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حليل بيانات جمعت من استبيان </a:t>
            </a:r>
            <a:br>
              <a:rPr sz="3200"/>
            </a:br>
            <a:br>
              <a:rPr sz="3200"/>
            </a:b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رأي الطلبة في الزي المدرسي 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3789360"/>
          <a:ext cx="8280360" cy="180036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79640"/>
                <a:gridCol w="1225440"/>
                <a:gridCol w="1150920"/>
                <a:gridCol w="2521080"/>
              </a:tblGrid>
              <a:tr h="7081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10922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ذا افعل بالبيانات؟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2133720"/>
          <a:ext cx="7846920" cy="1512360"/>
        </p:xfrm>
        <a:graphic>
          <a:graphicData uri="http://schemas.openxmlformats.org/drawingml/2006/table">
            <a:tbl>
              <a:tblPr/>
              <a:tblGrid>
                <a:gridCol w="1227240"/>
                <a:gridCol w="955440"/>
                <a:gridCol w="1022400"/>
                <a:gridCol w="1162080"/>
                <a:gridCol w="1090800"/>
                <a:gridCol w="2388960"/>
              </a:tblGrid>
              <a:tr h="8550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7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885000" y="162684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5000" y="393192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طالب # </a:t>
            </a:r>
            <a:r>
              <a:rPr b="1" lang="ar-QA" sz="20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4437000"/>
          <a:ext cx="7848360" cy="1728720"/>
        </p:xfrm>
        <a:graphic>
          <a:graphicData uri="http://schemas.openxmlformats.org/drawingml/2006/table">
            <a:tbl>
              <a:tblPr/>
              <a:tblGrid>
                <a:gridCol w="1227600"/>
                <a:gridCol w="955440"/>
                <a:gridCol w="1023120"/>
                <a:gridCol w="1161720"/>
                <a:gridCol w="1090800"/>
                <a:gridCol w="238968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97812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لخص البيانات في جدول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844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د الطلبة الذين اختاروا كل خي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2805120"/>
          <a:ext cx="7847280" cy="1190520"/>
        </p:xfrm>
        <a:graphic>
          <a:graphicData uri="http://schemas.openxmlformats.org/drawingml/2006/table">
            <a:tbl>
              <a:tblPr/>
              <a:tblGrid>
                <a:gridCol w="1227240"/>
                <a:gridCol w="955800"/>
                <a:gridCol w="1022400"/>
                <a:gridCol w="1161720"/>
                <a:gridCol w="1090800"/>
                <a:gridCol w="2389320"/>
              </a:tblGrid>
              <a:tr h="75060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غير 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حايد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</a:t>
                      </a: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موافق بشد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53172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Bell MT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4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1600" spc="-1" strike="noStrike">
                          <a:solidFill>
                            <a:srgbClr val="000000"/>
                          </a:solidFill>
                          <a:latin typeface="Bell MT"/>
                          <a:cs typeface="Arial"/>
                        </a:rPr>
                        <a:t>أجد أن لون الزي المدرسي مناس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15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Tahoma"/>
                <a:cs typeface="Simplified Arabic"/>
              </a:rPr>
              <a:t>مثل البيانات في شكل رسم بياني</a:t>
            </a:r>
            <a:r>
              <a:rPr b="1" lang="ar-QA" sz="4000" spc="-1" strike="noStrike">
                <a:solidFill>
                  <a:srgbClr val="0da9a9"/>
                </a:solidFill>
                <a:latin typeface="Tahoma"/>
                <a:ea typeface="Simplified Arabic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628640"/>
          <a:ext cx="9144000" cy="49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5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Times New Roman"/>
                <a:cs typeface="Times New Roman"/>
              </a:rPr>
              <a:t>تفسير البيانات : ماذا تخبرك البيانات؟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أغلب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5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يعجبهم لون الزي المدر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بعض الطلبة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لا يعجبهم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0%</a:t>
            </a:r>
            <a:r>
              <a:rPr b="0" lang="ar-Q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طلبة لا يعجبهم لون الزي المدر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تابة البحث ( كتابة تقرير البحث )</a:t>
            </a:r>
            <a:r>
              <a:rPr b="1" lang="ar-QA" sz="4000" spc="-1" strike="noStrike" u="sng">
                <a:solidFill>
                  <a:srgbClr val="0da9a9"/>
                </a:solidFill>
                <a:uFillTx/>
                <a:latin typeface="Century Schoolbook"/>
                <a:ea typeface="Arial"/>
              </a:rPr>
              <a:t>:</a:t>
            </a:r>
            <a:r>
              <a:rPr b="1" lang="en-US" sz="4000" spc="-1" strike="noStrike" u="sng">
                <a:solidFill>
                  <a:srgbClr val="0da9a9"/>
                </a:solidFill>
                <a:uFillTx/>
                <a:latin typeface="Century Schoolbook"/>
              </a:rPr>
              <a:t> 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كتابة تقرير البحث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إن كتابة تقرير البحث في أساسها نوع من الإخبار بقصة ، قصة أداء البحث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لماذا وكيف قرر الباحث إجراء البحث ( المقد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كيف قام بالبحث ( منهجية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ذا حدث ( نتائج البحث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ي النتائج التي توصل لها الباحث ( المناقش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</a:rPr>
              <a:t>تخبرك ما هو المستفاد من هذا البحث ( الخاتم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غرض من كتابة تقرير البحث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من أين اتت الفك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عملي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اساسية التي استخدمت في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جمع البيانات الثا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طرق تحليل البيا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توضيح فائدة ا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ناقشة نتائج البحث وكيف يمكن تطبيق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نوع من التوثيق للبح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نظيم وتركيب تقرير البحث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قرير البحث يتكون من عدة أجز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Tahoma"/>
                <a:cs typeface="Simplified Arabic"/>
              </a:rPr>
              <a:t>هذه الأجزاء مصاغة بشكل متسلسل تبدأ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ea typeface="Simplified Arabic"/>
              </a:rPr>
              <a:t> بالعنوان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المقدمة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وتنتهي </a:t>
            </a:r>
            <a:r>
              <a:rPr b="1" lang="ar-QA" sz="3200" spc="-1" strike="noStrike" u="sng">
                <a:solidFill>
                  <a:srgbClr val="000000"/>
                </a:solidFill>
                <a:uFillTx/>
                <a:latin typeface="Tahoma"/>
                <a:cs typeface="Simplified Arabic"/>
              </a:rPr>
              <a:t>بالمراجع</a:t>
            </a:r>
            <a:r>
              <a:rPr b="1" lang="ar-QA" sz="3200" spc="-1" strike="noStrike">
                <a:solidFill>
                  <a:srgbClr val="000000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8560" y="54900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التركيب والتنظيم الأساسي لتقرير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قد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ماذا قمت بهذه الدراسة ؟  ما الذي كنت تريد التوصل إليه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هو سؤال بحثك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طرق البحث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قمت بهذا  البحث ( الإجراءات )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يف جمعت البيانات ؟ من شارك في البحث ؟ أين اجريت الدراسة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نتائج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ذا وجدت ؟ لخص البيانات في جداول او رسوم بيان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ناقشة والخاتم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ا معنى النتائج التي حصلت عليها؟ هل النتائج التي حصلت عليها تجيب على سؤ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بحثك؟ ما فائدة النتائج التي حصلت عليها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مراجع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ائمة بالمراجع التي استشهدت بها في بحث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نواع مختلفة من تقرير البحث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: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Arial"/>
                <a:cs typeface="Simplified Arabic"/>
              </a:rPr>
              <a:t>هناك عدة طرق لتقرير البحث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كتوب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على هيئة عرض تقديمي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power point presentation</a:t>
            </a:r>
            <a:r>
              <a:rPr b="1" lang="ar-QA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مرئي ( على هيئة فيديو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2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71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3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قرير الصوتي ( على هيئة تسجيل صوتي )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Aft>
                <a:spcPts val="7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6484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marL="406440" indent="-40644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cs typeface="Arial"/>
              </a:rPr>
              <a:t>تنقيح  افكار الطلبة والوصول إلى سؤال البح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365292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تحليل البيان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789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جمع البيا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41630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ar-QA" sz="2800" spc="-1" strike="noStrike">
                <a:solidFill>
                  <a:srgbClr val="000000"/>
                </a:solidFill>
                <a:latin typeface="Verdana"/>
                <a:ea typeface="Arial"/>
              </a:rPr>
              <a:t>- كتابة نتائج البحث ومشاركتها مع الآخر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981000"/>
            <a:ext cx="445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Bookman Old Style"/>
                <a:cs typeface="Arial"/>
              </a:rPr>
              <a:t>خطوات البح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أهمية مشاركة نتائج الأبحاث :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جب أن يكون لدى الطلبة الفرصة لمشاركة النتائج التي توصلوا إليها من خلال بحثهم مع زملائهم الطلبة ، المدرسين ، مدير المدرسة وأولياء الأم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وصيات الطلبة يجب أن تؤخذ بجدية واحترام وتعتبر مساهمة فعالة لحل مشكلة البح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ن المهم أيضاً ان يشعر الطلبة بأنهم جزء من صناعة القرار في مدرستهم وفي مجتمعهم بقدرتهم على ايجاد حلول للمشاكل المختلف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أمر لا يتعلق فقط بتعليم الطلبة مهارات البحث ، إنه تعليمهم كيف يصبحوا أعضاء فاعلين في مجتمعه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3789360"/>
            <a:ext cx="194328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42920" y="7632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ww.teachers.net.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164360" cy="5373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71640" y="3860640"/>
            <a:ext cx="158436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12356" t="18512" r="13817" b="7659"/>
          <a:stretch/>
        </p:blipFill>
        <p:spPr>
          <a:xfrm>
            <a:off x="1116000" y="145728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5445000"/>
            <a:ext cx="865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922280"/>
            <a:ext cx="3168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000" spc="-1" strike="noStrike">
                <a:solidFill>
                  <a:srgbClr val="000000"/>
                </a:solidFill>
                <a:latin typeface="Verdana"/>
                <a:cs typeface="Arial"/>
              </a:rPr>
              <a:t>رابط لقسم البحث</a:t>
            </a:r>
            <a:r>
              <a:rPr b="0" lang="ar-QA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5300640"/>
            <a:ext cx="431640" cy="36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تابع أخبار البحث</a:t>
            </a:r>
            <a:r>
              <a:rPr b="1" i="1" lang="ar-QA" sz="3200" spc="-1" strike="noStrike">
                <a:solidFill>
                  <a:srgbClr val="0da9a9"/>
                </a:solidFill>
                <a:latin typeface="Century Schoolbook"/>
              </a:rPr>
              <a:t> 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9587" t="19683" r="11411" b="7467"/>
          <a:stretch/>
        </p:blipFill>
        <p:spPr>
          <a:xfrm>
            <a:off x="684360" y="1125360"/>
            <a:ext cx="7705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شكرا لحضوركم واستماعكم </a:t>
            </a:r>
            <a:br>
              <a:rPr sz="2800"/>
            </a:b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اذا كان لديكم أي اسئلة او رغبتم بالحصول على معلومات اضافية </a:t>
            </a:r>
            <a:br>
              <a:rPr sz="2800"/>
            </a:b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إمكانكم التواصل مع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r>
              <a:rPr b="1" lang="ar-QA" sz="2800" spc="-1" strike="noStrike">
                <a:solidFill>
                  <a:srgbClr val="0da9a9"/>
                </a:solidFill>
                <a:latin typeface="Century Schoolbook"/>
                <a:ea typeface="Arial"/>
              </a:rPr>
              <a:t>:</a:t>
            </a:r>
            <a:endParaRPr b="1" i="1" lang="en-US" sz="28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364464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e.jongsma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hone:  456-0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681-3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a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t.alnuimi@sec.gov.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ffice Pone: 456-0l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Mobile:  586-99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0da9a9"/>
                </a:solidFill>
                <a:uFillTx/>
                <a:latin typeface="Bookman Old Style"/>
                <a:cs typeface="Arial"/>
              </a:rPr>
              <a:t>صياغة سؤال البحث 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03640" y="4581000"/>
            <a:ext cx="316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70000"/>
              </a:lnSpc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النشاط </a:t>
            </a:r>
            <a:r>
              <a:rPr b="1" lang="ar-QA" sz="66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421000"/>
            <a:ext cx="741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8000" spc="-1" strike="noStrike">
                <a:solidFill>
                  <a:srgbClr val="000000"/>
                </a:solidFill>
                <a:latin typeface="Book Antiqua"/>
                <a:cs typeface="Arial"/>
              </a:rPr>
              <a:t>لنجرب بعض الأفكار</a:t>
            </a:r>
            <a:r>
              <a:rPr b="1" lang="ar-QA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a9a9"/>
                </a:solidFill>
                <a:latin typeface="Bookman Old Style"/>
              </a:rPr>
              <a:t>Topics                            </a:t>
            </a:r>
            <a:r>
              <a:rPr b="1" lang="ar-QA" sz="4000" spc="-1" strike="noStrike">
                <a:solidFill>
                  <a:srgbClr val="0da9a9"/>
                </a:solidFill>
                <a:latin typeface="Bookman Old Style"/>
                <a:cs typeface="Arial"/>
              </a:rPr>
              <a:t>مواضيع</a:t>
            </a:r>
            <a:r>
              <a:rPr b="0" lang="ar-QA" sz="3600" spc="-1" strike="noStrike">
                <a:solidFill>
                  <a:srgbClr val="0da9a9"/>
                </a:solidFill>
                <a:latin typeface="Bookman Old Style"/>
                <a:ea typeface="Arial"/>
              </a:rPr>
              <a:t> </a:t>
            </a:r>
            <a:endParaRPr b="1" i="1" lang="en-US" sz="36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6716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uman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ffic in Qa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14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V Chan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61760" y="2062800"/>
            <a:ext cx="49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حقوق الإنسا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طعام الص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ختناق المروري في ق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نوات التلفا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أين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إجابة لسؤال البحث 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ا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كتبة ( كتب ،جرائد، مجلات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صادر محلية ( متاحف ، مراكز صحي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خب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فراد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789360"/>
            <a:ext cx="8424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 u="sng">
                <a:solidFill>
                  <a:srgbClr val="0da9a9"/>
                </a:solidFill>
                <a:uFillTx/>
                <a:latin typeface="Century Schoolbook"/>
                <a:cs typeface="Arial"/>
              </a:rPr>
              <a:t>كيف </a:t>
            </a: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حصل على المعلومات التي احتاجها للإجابة على السؤ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337640"/>
            <a:ext cx="770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استبي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قاب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مشاه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Verdana"/>
                <a:cs typeface="Arial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134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QA" sz="3600" spc="-1" strike="noStrike">
                <a:solidFill>
                  <a:srgbClr val="0da9a9"/>
                </a:solidFill>
                <a:latin typeface="Century Schoolbook"/>
                <a:cs typeface="Arial"/>
              </a:rPr>
              <a:t>ما هي البيانات ؟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بيانات قَدْ تَشْملُ الأعدادِ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كلمات،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  <a:cs typeface="Arial"/>
              </a:rPr>
              <a:t>صور، خصوصاً 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حين تكون مقياس لمجموعة من المتغيرات</a:t>
            </a:r>
            <a:r>
              <a:rPr b="1" lang="ar-QA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.</a:t>
            </a:r>
            <a:r>
              <a:rPr b="1" lang="en-US" sz="3200" spc="-1" strike="noStrike">
                <a:solidFill>
                  <a:srgbClr val="0da9a9"/>
                </a:solidFill>
                <a:latin typeface="Century Schoolbook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2800"/>
            </a:b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21000"/>
            <a:ext cx="1440000" cy="79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da9a9"/>
                </a:solidFill>
                <a:latin typeface="Century Schoolbook"/>
                <a:cs typeface="Arial"/>
              </a:rPr>
              <a:t>أدوات جمع البيانات:</a:t>
            </a:r>
            <a:endParaRPr b="1" i="1" lang="en-US" sz="32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287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مشاه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دي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مشاه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</a:rPr>
              <a:t>فح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متحانات ، اختب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7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خذ 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2060640"/>
            <a:ext cx="378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2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تساؤل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مقاب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Aft>
                <a:spcPts val="68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00"/>
                </a:solidFill>
                <a:latin typeface="Arial"/>
                <a:cs typeface="Simplified Arabic"/>
              </a:rPr>
              <a:t>استبيان ومسح</a:t>
            </a:r>
            <a:r>
              <a:rPr b="0" lang="ar-QA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3640" y="1266840"/>
            <a:ext cx="9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b">
            <a:sp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الممكن تصنيف أدوات جمع البيانات بالشكل الت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88980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قراءة وكتاب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قراءة بخصوص الموضو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اليوم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ة مفك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28736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da9a9"/>
                </a:solidFill>
                <a:latin typeface="Century Schoolbook"/>
                <a:cs typeface="Arial"/>
              </a:rPr>
              <a:t>بعض الأدوات الشائعة في جمع البيانات:</a:t>
            </a:r>
            <a:endParaRPr b="1" i="1" lang="en-US" sz="4000" spc="-1" strike="noStrike">
              <a:solidFill>
                <a:srgbClr val="0da9a9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استبيان والمس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قابل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مشاهد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800" spc="-1" strike="noStrike">
                <a:solidFill>
                  <a:srgbClr val="000000"/>
                </a:solidFill>
                <a:latin typeface="Arial"/>
              </a:rPr>
              <a:t>التجرب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0:40:46Z</dcterms:created>
  <dc:creator>Katie Swanson</dc:creator>
  <dc:description/>
  <dc:language>en-US</dc:language>
  <cp:lastModifiedBy>t.alnuimi</cp:lastModifiedBy>
  <cp:lastPrinted>2003-12-19T17:34:29Z</cp:lastPrinted>
  <dcterms:modified xsi:type="dcterms:W3CDTF">2008-11-13T06:01:17Z</dcterms:modified>
  <cp:revision>512</cp:revision>
  <dc:subject/>
  <dc:title>No Slide Title</dc:title>
</cp:coreProperties>
</file>